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45FC-DCA8-46D2-95BB-77C7FF5AA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6444-6726-444E-9BB0-5736BF3C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925E-C5E4-4B6E-BD78-DB248AD5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6AB0-1F7E-4930-8507-625B9A60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80B9-41A0-4407-832C-3B3DCDF4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2FF8-3383-481D-9E16-82E8575F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0F9A-4409-4A8C-B635-3C56A19B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B38B-1158-43F9-B046-3505408C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FC9-CB37-4C45-B8F1-A563DF37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C41A-E0B4-499B-870F-BEFE9F9B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8152-B99F-47CE-8F91-8D0E6B6D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2592-964B-4DE4-B89D-5B4AA19D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BB082-9576-4CFB-A4EB-8FE449739F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97B1B9-BCE8-4FF1-B4BF-A20F258FD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nowman Cvr.jpg"/>
          <p:cNvPicPr/>
          <p:nvPr/>
        </p:nvPicPr>
        <p:blipFill>
          <a:blip r:embed="rId1"/>
          <a:stretch/>
        </p:blipFill>
        <p:spPr>
          <a:xfrm>
            <a:off x="0" y="174600"/>
            <a:ext cx="6858000" cy="879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page010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page011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page012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page013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page014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page015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page016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page017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page018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page019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page002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page020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page021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2014560" y="2712960"/>
            <a:ext cx="2717640" cy="108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547e"/>
                    </a:gs>
                    <a:gs pos="100000">
                      <a:srgbClr val="548dd4"/>
                    </a:gs>
                  </a:gsLst>
                  <a:lin ang="13500000"/>
                </a:gradFill>
                <a:effectLst>
                  <a:outerShdw dist="25560" dir="16200000" blurRad="0" rotWithShape="0">
                    <a:srgbClr val="548dd4">
                      <a:alpha val="50000"/>
                    </a:srgbClr>
                  </a:outerShdw>
                </a:effectLst>
                <a:latin typeface="Lucida Bright"/>
              </a:rPr>
              <a:t>The End</a:t>
            </a:r>
            <a:endParaRPr b="1" lang="en-US" sz="5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547e"/>
                  </a:gs>
                  <a:gs pos="100000">
                    <a:srgbClr val="548dd4"/>
                  </a:gs>
                </a:gsLst>
                <a:lin ang="13500000"/>
              </a:gradFill>
              <a:effectLst>
                <a:outerShdw dist="25560" dir="16200000" blurRad="0" rotWithShape="0">
                  <a:srgbClr val="548dd4">
                    <a:alpha val="50000"/>
                  </a:srgbClr>
                </a:outerShdw>
              </a:effectLst>
              <a:latin typeface="Lucida Bright"/>
              <a:ea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page003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page004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page005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page006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page007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page008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page009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2:38:09Z</dcterms:created>
  <dc:creator>Beverly Moshier</dc:creator>
  <dc:description/>
  <dc:language>en-US</dc:language>
  <cp:lastModifiedBy>Beverly Moshier</cp:lastModifiedBy>
  <dcterms:modified xsi:type="dcterms:W3CDTF">2012-02-06T12:46:29Z</dcterms:modified>
  <cp:revision>1</cp:revision>
  <dc:subject/>
  <dc:title>Slide 1</dc:title>
</cp:coreProperties>
</file>